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BA2-1C48-403C-869E-E06DB13BE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C857-F133-489B-B694-2966842F9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C7B8-ECDB-403A-ADEA-D44D5C454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FE6E-4803-4B36-9555-64E484A37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13BA-533B-4535-B152-2AD1C1801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5410-545C-45FC-8F41-D5BC42034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5330-1AF3-4797-8B6D-AD8761EB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C9B-332E-49AC-A806-CD810FC2D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3951-3512-4A80-88B6-D7A7C40BE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15D-C24E-4A26-9FEA-8CC9702F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F8AD-8818-4832-906F-A0DC5E42A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47E8-8F3F-4AFD-A4B5-BF30DDA3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F69C-C76A-42F8-AC7A-D3D97C09A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in Multi-Ethinic Socie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ern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N. Ireland, there are fully-funded public schools that cater to Protestant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also private schools that cater to Catholics on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vate schools for Catholics are partly funded by the gover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school students are taught British history, play British sports and are very loyal to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 children learn Irish history, play Irish sports and are taught Irish language and cul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regard Britain as a foreign coun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Educatio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are integrated schools for both Protestants and Cathol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5% of the school-going population go to thes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5 Lack of opportunities for social interaction (Residen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the 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ntury, Catholics and Protestants live in separate residential ar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91 census shows that in Belfast, 63% lived in areas that were either mainly Catholic or Prote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2001, the figure rose to 66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reduces opportunities for soci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es of the Confli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3 Unequal employment opport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5 Lack of opportunities for social inte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ce in Political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see themselves as British and want to remain in the United Kingd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do not want a union with the Republic of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estants fear that the Catholic government in Ireland would not be tolerant of their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1 Divided Loyal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see themselves as Irish and want to reunite with the Republic of Ir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still resent English con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loyalties make Protestants and Catholics intolerant of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housing is provided by city cou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uncils usually consist largely of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lic housing is partially paid for by the govern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.2 Unequal allocation of hous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Catholics families in need of housing have to wait a long time to get ho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houses given to Protestants than Catholics in some tow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frustrated as they have to wait many years for their ho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d Sources on housing found on pg 1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8.3 Unequal employment opportunitie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ly, it is more difficult for Catholics to find jobs, esp. government jo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have the same academic qualifications as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holics feel that they do not have the same opportunities in getting the jobs they w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 graph on pg 1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fore 1969, Voting rights was an 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house owners and businesses were entitled to vo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household got 2 votes and companies got m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companies owned by rich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districts were drawn to include a larger proportion of Protest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8.4 Lack of voting ri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ce 1969, everyone is entitled to one vote as long as he is a British citizen above 18 years 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ting districts were also redrawn to ensure fai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1:27:46Z</dcterms:created>
  <dc:creator>moe</dc:creator>
  <dc:description/>
  <dc:language>en-US</dc:language>
  <cp:lastModifiedBy>moe</cp:lastModifiedBy>
  <dcterms:modified xsi:type="dcterms:W3CDTF">2009-02-01T01:46:18Z</dcterms:modified>
  <cp:revision>2</cp:revision>
  <dc:subject/>
  <dc:title>Conflict in Multi-Ethinic Societies</dc:title>
</cp:coreProperties>
</file>